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0C82-CA7C-4504-AF09-5C53F6DDBF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.6 Oils and F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 – important for storing chemical energy in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re liquids – fats are sol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from esters of propane-1,2,3,triol (glycerol) + long chain carboxylic acids R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 – important for storing chemical energy in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re liquids – fats are sol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from esters of propane-1,2,3,triol (glycerol) + long chain carboxylic acids R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s (triglycerides) – 3 carboxylic acids react with tri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ed triesters – three acid groups, not all alike often found in natural oils and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s (triglycerides) – 3 carboxylic acids react with tri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ed triesters – three acid groups, not all alike often found in natural oils and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s and fatty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anched hydrocarbo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fatty acids – occur in fat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unsaturated / 3 or 4 double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known by old names – systematic names too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cause blockage of blood vessels and heart disease, especially the saturated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s and fatty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anched hydrocarbo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fatty acids – occur in fat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unsaturated / 3 or 4 double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known by old names – systematic names too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cause blockage of blood vessels and heart disease, especially the saturated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oils and fats are mixtures of tri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plit up by hydrolysis, heat with conc. Na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 + NaOH  glycerol + sodium salt of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s of soap manufacture eg. “Palmoli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dium salts to free acids by adding dil. HCl or other mineral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oils and fats are mixtures of tri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plit up by hydrolysis, heat with conc. Na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 + NaOH  glycerol + sodium salt of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s of soap manufacture eg. “Palmoli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dium salts to free acids by adding dil. HCl or other mineral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cis double bonds - causes kin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cis double bonds - causes kin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ation of unsaturated oils - make marga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d hydrogenation makes oils more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 H2 through heated oil - nickel cataly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ation of unsaturated oils - make marga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d hydrogenation makes oils more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 H2 through heated oil - nickel cataly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8A14-6800-47A0-8D39-55254D60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D6A2-7833-4402-B752-B4A65ED1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FB31-E232-43C6-BD5C-C7F945B9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380-C5ED-47BD-A42B-DD3A4D28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998B-3788-47A9-9111-075B7D47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E7E5-F9A5-4194-8B3B-4092313E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7A98-AA9F-4850-AD2E-1967BAFB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C287-80B7-49C6-8297-57856E71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0A68-0110-43B1-8C31-080D1EE8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D9D-B36D-4506-A94C-61CD1CA9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41E-5698-491B-AF59-805945C6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35E-1546-425A-97B0-1BCEEC30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9B26-4F1C-43EC-9939-69147E1E05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3.6 Oils and F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2057400" y="3581280"/>
          <a:ext cx="173844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581280"/>
                    <a:ext cx="173844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6"/>
          <p:cNvGraphicFramePr/>
          <p:nvPr/>
        </p:nvGraphicFramePr>
        <p:xfrm>
          <a:off x="5181480" y="4038480"/>
          <a:ext cx="2057400" cy="134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4038480"/>
                    <a:ext cx="205740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ourier New"/>
              </a:rPr>
              <a:t>Chemical struct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ils and fats – important for storing chemical energy in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ils are liquids – fats are sol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de from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ester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of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propane-1,2,3,triol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(glycerol) + long chain carboxylic acids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RCOOH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1676520" y="4343400"/>
          <a:ext cx="645768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343400"/>
                    <a:ext cx="64576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fatty acids"/>
          <p:cNvPicPr/>
          <p:nvPr/>
        </p:nvPicPr>
        <p:blipFill>
          <a:blip r:embed="rId1"/>
          <a:stretch/>
        </p:blipFill>
        <p:spPr>
          <a:xfrm>
            <a:off x="457200" y="1981080"/>
            <a:ext cx="8282160" cy="3048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Triester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triglycerides)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– 3 carboxylic acids react with tri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Mixed triester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– three acid groups, not all alike often found in natural oils and f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609480" y="2362320"/>
          <a:ext cx="449604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62320"/>
                    <a:ext cx="44960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ourier New"/>
              </a:rPr>
              <a:t>Fats and fatty aci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nbranched hydrocarbon ch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alled fatty acids – occur in fat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lly unsaturated / 3 or 4 double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till known by old names – systematic names too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hought to cause blockage of blood vessels and heart disease, especially the saturated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atural oils and fats are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mixtures of triester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an be split up by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hydrolysis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heat with conc. NaO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Triester + NaOH </a:t>
            </a:r>
            <a:r>
              <a:rPr b="1" lang="en-GB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 glycerol + sodium salt of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asis of soap manufacture eg. </a:t>
            </a: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“Palmol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nvert sodium salts to free acids by adding dil. HCl or other mineral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3809880"/>
            <a:ext cx="7238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3" descr="satgly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186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14"/>
          <p:cNvGraphicFramePr/>
          <p:nvPr/>
        </p:nvGraphicFramePr>
        <p:xfrm>
          <a:off x="914400" y="657360"/>
          <a:ext cx="1752480" cy="114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657360"/>
                    <a:ext cx="175248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ouble bonds - causes kink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unsatgly"/>
          <p:cNvPicPr/>
          <p:nvPr/>
        </p:nvPicPr>
        <p:blipFill>
          <a:blip r:embed="rId1"/>
          <a:stretch/>
        </p:blipFill>
        <p:spPr>
          <a:xfrm>
            <a:off x="1219320" y="1371600"/>
            <a:ext cx="5867280" cy="277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9"/>
          <p:cNvGraphicFramePr/>
          <p:nvPr/>
        </p:nvGraphicFramePr>
        <p:xfrm>
          <a:off x="838080" y="685800"/>
          <a:ext cx="1430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685800"/>
                    <a:ext cx="1430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3962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ydrogen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unsaturated oils - make margar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ntroll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ydrogenation makes oils more sol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ss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rough heated oil - nickel cataly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1"/>
          <p:cNvGrpSpPr/>
          <p:nvPr/>
        </p:nvGrpSpPr>
        <p:grpSpPr>
          <a:xfrm>
            <a:off x="609480" y="914400"/>
            <a:ext cx="8344080" cy="2857680"/>
            <a:chOff x="609480" y="914400"/>
            <a:chExt cx="8344080" cy="2857680"/>
          </a:xfrm>
        </p:grpSpPr>
        <p:grpSp>
          <p:nvGrpSpPr>
            <p:cNvPr id="81" name="Group 32"/>
            <p:cNvGrpSpPr/>
            <p:nvPr/>
          </p:nvGrpSpPr>
          <p:grpSpPr>
            <a:xfrm>
              <a:off x="609480" y="914400"/>
              <a:ext cx="8344080" cy="2400480"/>
              <a:chOff x="609480" y="914400"/>
              <a:chExt cx="8344080" cy="2400480"/>
            </a:xfrm>
          </p:grpSpPr>
          <p:sp>
            <p:nvSpPr>
              <p:cNvPr id="82" name="Line 33"/>
              <p:cNvSpPr/>
              <p:nvPr/>
            </p:nvSpPr>
            <p:spPr>
              <a:xfrm flipV="1">
                <a:off x="4200480" y="2287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Group 34"/>
              <p:cNvGrpSpPr/>
              <p:nvPr/>
            </p:nvGrpSpPr>
            <p:grpSpPr>
              <a:xfrm>
                <a:off x="609480" y="914400"/>
                <a:ext cx="8344080" cy="2400480"/>
                <a:chOff x="609480" y="914400"/>
                <a:chExt cx="8344080" cy="2400480"/>
              </a:xfrm>
            </p:grpSpPr>
            <p:sp>
              <p:nvSpPr>
                <p:cNvPr id="84" name="AutoShape 35"/>
                <p:cNvSpPr/>
                <p:nvPr/>
              </p:nvSpPr>
              <p:spPr>
                <a:xfrm>
                  <a:off x="609480" y="1600200"/>
                  <a:ext cx="1828800" cy="91440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Oil mixtu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Text Box 36"/>
                <p:cNvSpPr/>
                <p:nvPr/>
              </p:nvSpPr>
              <p:spPr>
                <a:xfrm>
                  <a:off x="2666880" y="1943280"/>
                  <a:ext cx="799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Refin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Text Box 37"/>
                <p:cNvSpPr/>
                <p:nvPr/>
              </p:nvSpPr>
              <p:spPr>
                <a:xfrm>
                  <a:off x="3695400" y="1943280"/>
                  <a:ext cx="1142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ydrogen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Text Box 38"/>
                <p:cNvSpPr/>
                <p:nvPr/>
              </p:nvSpPr>
              <p:spPr>
                <a:xfrm>
                  <a:off x="5067360" y="1943280"/>
                  <a:ext cx="6854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Blen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39"/>
                <p:cNvSpPr/>
                <p:nvPr/>
              </p:nvSpPr>
              <p:spPr>
                <a:xfrm>
                  <a:off x="5981760" y="1943280"/>
                  <a:ext cx="91440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Emulsifi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AutoShape 40"/>
                <p:cNvSpPr/>
                <p:nvPr/>
              </p:nvSpPr>
              <p:spPr>
                <a:xfrm>
                  <a:off x="7124760" y="1600200"/>
                  <a:ext cx="1828800" cy="91440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Margari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AutoShape 41"/>
                <p:cNvSpPr/>
                <p:nvPr/>
              </p:nvSpPr>
              <p:spPr>
                <a:xfrm>
                  <a:off x="3466800" y="2514600"/>
                  <a:ext cx="1485720" cy="5713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Cataly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AutoShape 42"/>
                <p:cNvSpPr/>
                <p:nvPr/>
              </p:nvSpPr>
              <p:spPr>
                <a:xfrm>
                  <a:off x="3466800" y="1142640"/>
                  <a:ext cx="1485720" cy="5713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ydro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AutoShape 43"/>
                <p:cNvSpPr/>
                <p:nvPr/>
              </p:nvSpPr>
              <p:spPr>
                <a:xfrm>
                  <a:off x="5753160" y="914400"/>
                  <a:ext cx="1485720" cy="7999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Fat free mil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AutoShape 44"/>
                <p:cNvSpPr/>
                <p:nvPr/>
              </p:nvSpPr>
              <p:spPr>
                <a:xfrm>
                  <a:off x="5753160" y="2514600"/>
                  <a:ext cx="1714680" cy="80028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Flavourings etc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45"/>
                <p:cNvSpPr/>
                <p:nvPr/>
              </p:nvSpPr>
              <p:spPr>
                <a:xfrm>
                  <a:off x="2438280" y="2057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46"/>
                <p:cNvSpPr/>
                <p:nvPr/>
              </p:nvSpPr>
              <p:spPr>
                <a:xfrm>
                  <a:off x="34668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47"/>
                <p:cNvSpPr/>
                <p:nvPr/>
              </p:nvSpPr>
              <p:spPr>
                <a:xfrm>
                  <a:off x="48384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Line 48"/>
                <p:cNvSpPr/>
                <p:nvPr/>
              </p:nvSpPr>
              <p:spPr>
                <a:xfrm>
                  <a:off x="575316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Line 49"/>
                <p:cNvSpPr/>
                <p:nvPr/>
              </p:nvSpPr>
              <p:spPr>
                <a:xfrm>
                  <a:off x="6896160" y="2057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Line 50"/>
                <p:cNvSpPr/>
                <p:nvPr/>
              </p:nvSpPr>
              <p:spPr>
                <a:xfrm>
                  <a:off x="4209840" y="1706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Line 51"/>
                <p:cNvSpPr/>
                <p:nvPr/>
              </p:nvSpPr>
              <p:spPr>
                <a:xfrm>
                  <a:off x="6496200" y="1716120"/>
                  <a:ext cx="0" cy="23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Line 52"/>
                <p:cNvSpPr/>
                <p:nvPr/>
              </p:nvSpPr>
              <p:spPr>
                <a:xfrm flipV="1">
                  <a:off x="6610320" y="2287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Rectangle 53"/>
            <p:cNvSpPr/>
            <p:nvPr/>
          </p:nvSpPr>
          <p:spPr>
            <a:xfrm>
              <a:off x="1066680" y="3086280"/>
              <a:ext cx="114264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54"/>
            <p:cNvSpPr/>
            <p:nvPr/>
          </p:nvSpPr>
          <p:spPr>
            <a:xfrm>
              <a:off x="2323800" y="3086280"/>
              <a:ext cx="18288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Processes invol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55"/>
            <p:cNvSpPr/>
            <p:nvPr/>
          </p:nvSpPr>
          <p:spPr>
            <a:xfrm>
              <a:off x="952200" y="3429360"/>
              <a:ext cx="1028520" cy="3427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56"/>
            <p:cNvSpPr/>
            <p:nvPr/>
          </p:nvSpPr>
          <p:spPr>
            <a:xfrm>
              <a:off x="2095200" y="3429360"/>
              <a:ext cx="17146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Chemicals invol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19:45:16Z</dcterms:created>
  <dc:creator>M Tyrrell</dc:creator>
  <dc:description/>
  <dc:language>en-US</dc:language>
  <cp:lastModifiedBy>RomaK</cp:lastModifiedBy>
  <cp:lastPrinted>2002-03-05T22:45:04Z</cp:lastPrinted>
  <dcterms:modified xsi:type="dcterms:W3CDTF">2015-09-02T05:58:37Z</dcterms:modified>
  <cp:revision>16</cp:revision>
  <dc:subject/>
  <dc:title>13.6 Oils and Fats</dc:title>
</cp:coreProperties>
</file>